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11E-2DAE-4BA3-806A-B9D1D47E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143-DA5E-449D-B77F-A62117B9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AAD-D65B-482A-A7BD-D6FAA162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0F8-63D3-4D11-BE00-72E78194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11A-3317-40CA-992F-F4C5DE18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F29-A090-4B06-B811-321E8845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ECB-5929-4451-BE88-41F2CF01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F8A-C4F5-4A14-92F0-54346E35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3D1-F1BB-432D-94AB-C9DDCBE0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95A-A2C0-4624-A517-F5E99DAD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B4B-99FC-4580-A579-70DD2268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E97-36A2-4551-9856-DC92F54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E6E71E-39B6-42C2-A813-0F22A45EE88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5FFD62-9032-46B9-ACC3-FEA0A5B3226A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75ABD5-23BD-431E-A017-B86B3A951986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832FEE-AABA-49B4-B79F-705AC3B43E5A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77B41A-FF1C-4432-9553-DF0036776A96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862966-EB49-4369-9CBD-736C378827F7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1FECF1-7566-49C9-89AE-2C364D96F28D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E7CC57-71E8-49BF-8748-7711734BF6A7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AC28CE-851B-4F95-B8A5-2BEA63BB1F7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59AABD-75B9-4ECD-AC47-2F235FAF8C43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64AA8B-D806-4DAE-944E-21E932356711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69EB8E-8488-473F-8DDF-DBE4AD8FA673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820406-CE4A-4450-9407-1CE553D1F0A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F40F31-6EAF-4508-B8E4-F428DEB2777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QUADRO DE REUNIÕES – C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2004 - 20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0" name=""/>
          <p:cNvGraphicFramePr/>
          <p:nvPr/>
        </p:nvGraphicFramePr>
        <p:xfrm>
          <a:off x="32400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1325520"/>
                <a:gridCol w="595080"/>
                <a:gridCol w="433440"/>
                <a:gridCol w="409680"/>
                <a:gridCol w="409680"/>
                <a:gridCol w="409320"/>
                <a:gridCol w="409680"/>
                <a:gridCol w="409680"/>
                <a:gridCol w="409320"/>
                <a:gridCol w="409680"/>
                <a:gridCol w="409680"/>
                <a:gridCol w="409680"/>
                <a:gridCol w="409320"/>
                <a:gridCol w="409680"/>
                <a:gridCol w="409680"/>
                <a:gridCol w="409320"/>
                <a:gridCol w="890640"/>
              </a:tblGrid>
              <a:tr h="3031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24000" y="1052640"/>
          <a:ext cx="8507160" cy="5545080"/>
        </p:xfrm>
        <a:graphic>
          <a:graphicData uri="http://schemas.openxmlformats.org/drawingml/2006/table">
            <a:tbl>
              <a:tblPr/>
              <a:tblGrid>
                <a:gridCol w="1315800"/>
                <a:gridCol w="590760"/>
                <a:gridCol w="4316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7880"/>
                <a:gridCol w="406440"/>
                <a:gridCol w="884160"/>
              </a:tblGrid>
              <a:tr h="3013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395280" y="1197000"/>
          <a:ext cx="8589960" cy="5327640"/>
        </p:xfrm>
        <a:graphic>
          <a:graphicData uri="http://schemas.openxmlformats.org/drawingml/2006/table">
            <a:tbl>
              <a:tblPr/>
              <a:tblGrid>
                <a:gridCol w="1328760"/>
                <a:gridCol w="596880"/>
                <a:gridCol w="434880"/>
                <a:gridCol w="409680"/>
                <a:gridCol w="411120"/>
                <a:gridCol w="411120"/>
                <a:gridCol w="409680"/>
                <a:gridCol w="411120"/>
                <a:gridCol w="409680"/>
                <a:gridCol w="411120"/>
                <a:gridCol w="409680"/>
                <a:gridCol w="411120"/>
                <a:gridCol w="411120"/>
                <a:gridCol w="409680"/>
                <a:gridCol w="411120"/>
                <a:gridCol w="409320"/>
                <a:gridCol w="893880"/>
              </a:tblGrid>
              <a:tr h="33804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135" descr="mps-cabecalho"/>
          <p:cNvPicPr/>
          <p:nvPr/>
        </p:nvPicPr>
        <p:blipFill>
          <a:blip r:embed="rId1"/>
          <a:stretch/>
        </p:blipFill>
        <p:spPr>
          <a:xfrm>
            <a:off x="644400" y="3087036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35" descr="mps-cabecalho"/>
          <p:cNvPicPr/>
          <p:nvPr/>
        </p:nvPicPr>
        <p:blipFill>
          <a:blip r:embed="rId2"/>
          <a:stretch/>
        </p:blipFill>
        <p:spPr>
          <a:xfrm>
            <a:off x="644400" y="3124188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135" descr="mps-cabecalho"/>
          <p:cNvPicPr/>
          <p:nvPr/>
        </p:nvPicPr>
        <p:blipFill>
          <a:blip r:embed="rId3"/>
          <a:stretch/>
        </p:blipFill>
        <p:spPr>
          <a:xfrm>
            <a:off x="709560" y="3121344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395280" y="1123920"/>
          <a:ext cx="8507520" cy="5329440"/>
        </p:xfrm>
        <a:graphic>
          <a:graphicData uri="http://schemas.openxmlformats.org/drawingml/2006/table">
            <a:tbl>
              <a:tblPr/>
              <a:tblGrid>
                <a:gridCol w="1316160"/>
                <a:gridCol w="590400"/>
                <a:gridCol w="43200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8240"/>
                <a:gridCol w="406440"/>
                <a:gridCol w="884160"/>
              </a:tblGrid>
              <a:tr h="3096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135" descr="mps-cabecalho"/>
          <p:cNvPicPr/>
          <p:nvPr/>
        </p:nvPicPr>
        <p:blipFill>
          <a:blip r:embed="rId1"/>
          <a:stretch/>
        </p:blipFill>
        <p:spPr>
          <a:xfrm>
            <a:off x="679320" y="3107052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"/>
          <p:cNvGraphicFramePr/>
          <p:nvPr/>
        </p:nvGraphicFramePr>
        <p:xfrm>
          <a:off x="457200" y="1197000"/>
          <a:ext cx="8435880" cy="5111640"/>
        </p:xfrm>
        <a:graphic>
          <a:graphicData uri="http://schemas.openxmlformats.org/drawingml/2006/table">
            <a:tbl>
              <a:tblPr/>
              <a:tblGrid>
                <a:gridCol w="1305000"/>
                <a:gridCol w="585720"/>
                <a:gridCol w="426960"/>
                <a:gridCol w="403200"/>
                <a:gridCol w="403200"/>
                <a:gridCol w="403200"/>
                <a:gridCol w="403200"/>
                <a:gridCol w="4035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877680"/>
              </a:tblGrid>
              <a:tr h="5112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81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Conselhos que não foram reativados por falta de representantes da</a:t>
            </a: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 Sociedade Civil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lm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uarul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 algn="ctr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ano de 2013 foi discutida no âmbito do CNP, com aprofundamento em grupo de trabalho, a proposta de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nteprojeto de Lei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fim de alterar a Lei nº 8.213, de 24 de julho de 1991, para dispor sobre o Conselho Nacional de Previdência – CNP gerando uma maior representatividade às Centrais Sindicais e Confederaçõ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tualmente o retorno às discussões é amplamente pleiteado pelos representantes da UGT, CTB e CSB no Conselh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ítulo 1"/>
          <p:cNvSpPr/>
          <p:nvPr/>
        </p:nvSpPr>
        <p:spPr>
          <a:xfrm>
            <a:off x="457200" y="981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RECOMPOSIÇÃO DO CONSEL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364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A partir da nova proposta, a representação do CNP terá 30 (trinta) membros titulares, send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 Governo Federal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a sociedade civil, se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aposentados e pension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trabalhadores em atividade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empreg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5-03-12T22:39:06Z</cp:lastPrinted>
  <dcterms:modified xsi:type="dcterms:W3CDTF">2016-11-17T22:25:51Z</dcterms:modified>
  <cp:revision>259</cp:revision>
  <dc:subject/>
  <dc:title>Slide 1</dc:title>
</cp:coreProperties>
</file>